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702-8482-43E7-B04A-1F93BE62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39C-E115-433D-BC05-F47E7AA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8AD-2BFD-4C6B-9704-5B6E892A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AE4F-5608-4852-871F-EDB50891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21B-446B-4022-B242-832CED1E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BFB-06D9-46BB-8F6C-AA4C883C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9B3-DC8F-439F-AD8E-07F3730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94D-B5F7-4DBE-B60C-4392740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B6E-A450-42AF-8CEB-BF1FA30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828-9C20-4DF9-9A0B-6C374E78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6F9-7C6C-47DB-A1CE-AE843BA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1E8-3FB5-4A5D-B6FE-D65F940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02A-C01E-4303-8611-CB195079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Хвойные раст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екоратив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Многие хвойные – декоративные раст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амой процветающей сегодня группой голосеменных растений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войные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часто выделяемые в отдел 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</a:rPr>
              <a:t>Кониферофита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ечнозеле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это деревья либо кустарники, обычно вечнозелёные с цельными игловидными листьями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хвоей</a:t>
            </a:r>
            <a:r>
              <a:rPr b="0" lang="en-US" sz="2000" spc="-1" strike="noStrike">
                <a:solidFill>
                  <a:srgbClr val="172c07"/>
                </a:solidFill>
                <a:latin typeface="Tahoma"/>
                <a:ea typeface="Tahoma"/>
              </a:rPr>
              <a:t>); иногда листья чешуевидные или пластинчатые. Небольшая площадь поверхности листа и толстый восковой слой, покрывающий его, способствуют удержанию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1" descr=""/>
          <p:cNvPicPr/>
          <p:nvPr/>
        </p:nvPicPr>
        <p:blipFill>
          <a:blip r:embed="rId1"/>
          <a:stretch/>
        </p:blipFill>
        <p:spPr>
          <a:xfrm>
            <a:off x="5033880" y="1981080"/>
            <a:ext cx="3038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Древес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ревесине развита ксилема из трахеид с заметными годичными кольц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хвойные достигают высоты 50–60 м и даже 100 м и диаметра 6–9 м (например, секвойя) и живут тысячелетия (сосна долговечная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2" descr=""/>
          <p:cNvPicPr/>
          <p:nvPr/>
        </p:nvPicPr>
        <p:blipFill>
          <a:blip r:embed="rId1"/>
          <a:stretch/>
        </p:blipFill>
        <p:spPr>
          <a:xfrm>
            <a:off x="4822920" y="1981080"/>
            <a:ext cx="345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– большей частью однодомные растения. Пыльца образуется в микроспорангиях, расположенных на микроспорофиллах, иногда собранных в шишках (у сосны обыкновенной – около 5 мм в диаметре); яйцеклетки образуются на мегастробилах, собранных в шишки (у калифорнийской сосны Ламберта их размеры достигают 65 с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плодотво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2c07"/>
                </a:solidFill>
                <a:latin typeface="Tahoma"/>
                <a:ea typeface="Tahoma"/>
              </a:rPr>
              <a:t>Опыление происходит при помощи ветра. Пыльцевые зёрна прорастают, достигая яйцеклетки; наличие капельножидкой воды для этого не обязательно. После оплодотворения развивается зародыш, имеющий от 2 до 15 семядолей. У сосны оплодотворение происходит через год после опыления, а на созревание требуется ещё полтора год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е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Семена развиваются «голыми» – на поверхности семенных чешуй шишек. К моменту созревания чешуйки отгибаются, и семена (нередко крылатые) высыпаются наружу.</a:t>
            </a:r>
            <a:br>
              <a:rPr sz="3200"/>
            </a:br>
            <a:r>
              <a:rPr b="0" lang="en-US" sz="3200" spc="-1" strike="noStrike">
                <a:solidFill>
                  <a:srgbClr val="172c07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пищевой промышлен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2c07"/>
                </a:solidFill>
                <a:latin typeface="Tahoma"/>
                <a:ea typeface="Tahoma"/>
              </a:rPr>
              <a:t>Семена кедровой сосны и некоторых других хвойных употребляются в пищу, из них добывают мас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3" descr=""/>
          <p:cNvPicPr/>
          <p:nvPr/>
        </p:nvPicPr>
        <p:blipFill>
          <a:blip r:embed="rId1"/>
          <a:stretch/>
        </p:blipFill>
        <p:spPr>
          <a:xfrm>
            <a:off x="4819680" y="19810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в хозяйств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Хвойные (ель, сосна, пихта, кедр, тсуга) – важнейший источник древесины и продуктов её переработки – бумаги, канифоли, скипидара, дёгтя, лаков, дубильных вещест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4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1:07:18Z</dcterms:created>
  <dc:creator>Lussia</dc:creator>
  <dc:description/>
  <dc:language>en-US</dc:language>
  <cp:lastModifiedBy>Lussia</cp:lastModifiedBy>
  <dcterms:modified xsi:type="dcterms:W3CDTF">2008-07-30T21:18:03Z</dcterms:modified>
  <cp:revision>2</cp:revision>
  <dc:subject/>
  <dc:title>Хвойные растения</dc:title>
</cp:coreProperties>
</file>